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E5E-A542-4509-A1F5-56691983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F46-AB18-44B9-BD6B-9B7D5B5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1F6-1A9E-473A-8219-B40B7A40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BE2-BA1E-4276-A925-0948C5E1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79CE-ED60-4328-B207-1C0A996F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4931-E905-493D-9E8D-FDFB53FF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8876-8379-4431-B94C-CFCB6D91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3EB6-7662-4238-A2ED-C6FE2CC9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7423-EBA3-48C6-B124-5A987EE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B344-25A9-4133-8920-898509D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226C-3565-4876-8E70-A2EB16E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4FA-6ADC-457E-A54D-F996AAA5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BE38-6CB0-4EED-87B6-9D4F823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C68E-D2FC-4E5F-94E3-7A08EB0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93DD-F566-4517-8D53-F6C38686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9DDC-1154-405E-9520-68655FF8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9777-1B59-4E73-986C-B9560A71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DA7D-6B51-4E23-9188-0310E907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1B21-13AE-4ED1-9EDB-9CA05ED4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672E-A329-47CD-8BC3-0C04AF25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3555-C97C-4267-B0BD-A9A54879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03E5-39BB-45FF-BD78-E19DB26E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D65-494C-412F-A112-DD37FC1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37E8B-1F3E-499E-B61E-E5F19E72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A81B-5360-4777-9150-3C88A445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7E5C-E6AE-4427-83D2-5E87C843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52B8-E1E4-4BDD-BD4C-32214ED5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180A-9699-437D-ACF6-24692B0B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68AD-8483-4114-8AD8-B36C3E54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85D8-7294-4292-97A4-D0BA5EE6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8CCC-1CE8-427A-999B-B382D4EF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5DE3-23A6-4822-B17F-8FAA4625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47AC-C7A0-46D7-BB48-73DAF6F7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6B4-EBE1-48B2-B01C-205D9C3B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9249B-E689-47C7-A630-929C0EAD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B374-159B-47D0-B362-BBCDD64B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7C87-0915-4D94-A2DE-BC73E08B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339B-3027-4388-BD19-8ED4FA55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EE0D-E199-4D00-8C24-8744CB23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7C7A-5662-43B6-949E-EA708C31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04B19-92C4-468B-A007-A0A094FC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F2DC-EA77-4157-8D98-F9C08B76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271AF-ACDC-4AFB-9133-648C5BC5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48B-2AF9-40E3-ACD2-E5A22647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812-F3DE-44DF-A2B7-CD7420A5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C91-DD61-4C49-86A5-ADCC3833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5C0-6E25-4FCB-94BD-AD64F73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E66-EA67-479D-8605-5063D80A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5A4-F1FB-44F6-B867-E9AB81725B7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E175-AFEA-4C6E-A7BB-F6CEAA75064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D6AD-2816-41BE-9C0B-E5302B5BD0C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3886-FEA7-4F5D-8B78-6DCC9C5C85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 this unit students will be able to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amplitude, period and phase shift of a trigonometric equation or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graph of a trigonometric eq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equation given a sin/cosine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ve real world problems using a sinusoidal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their own sinusoidal application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rriculum Fram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sential:    How do patterns affect 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:  Which trigonometric function should I use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el this situation and wh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situation that can be modeled using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usoidal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ent:  What is the equation of the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graph of this equ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al world conne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ean tides—students graph depth of the tides at th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egon co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—students collect and graph the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 over 24 h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is wheel—students graph their height as they r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rris whe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—students collect and analyze their he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t rest, after exercising, after drink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ffeinated bevera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heart rate monitors to collect data on:   resting heart rate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exercis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drinking a caffeinated dri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google form to post reflections about their understanding of classroom 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 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choose an occupation in whi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ulating heart rate is an essential t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tor, trainer, nurse, paramedic, athlet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will choose a layout format and creat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ument explaining how heart rate is used 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ir occup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mphlet, poster, web site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5:34Z</dcterms:created>
  <dc:creator>Lab1</dc:creator>
  <dc:description/>
  <dc:language>en-US</dc:language>
  <cp:lastModifiedBy>Lab1</cp:lastModifiedBy>
  <dcterms:modified xsi:type="dcterms:W3CDTF">2010-08-06T14:50:35Z</dcterms:modified>
  <cp:revision>9</cp:revision>
  <dc:subject/>
  <dc:title>Sinusoidal Graphs</dc:title>
</cp:coreProperties>
</file>